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5A9FB-E2C2-4A52-8566-13B335DA1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D7BF8-6A57-45AF-BB37-AC6159C43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F0499-DA83-4BF1-884C-3CA93F7AB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0C40D-159B-4790-AE08-FB3B86BE1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1DE59-9163-4A39-BC5D-DA50093E4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F682D-3EA5-4A8F-8895-EDAB78D21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46DA5-242C-4B0A-94E0-D4B8E7744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15CED-B4A9-4753-B7D0-7997CDE1C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5264B-7BA6-48B1-A283-B028A771D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3C8A5-784E-40F2-8E05-C7640340A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6DEAB-0C69-4D91-9AB2-526B97667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5BBCA-EC2D-413F-B307-418A426A2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B848-027A-43A4-AEB7-10D4420B7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
          <p:cNvPicPr/>
          <p:nvPr/>
        </p:nvPicPr>
        <p:blipFill>
          <a:blip r:embed="rId1"/>
          <a:stretch/>
        </p:blipFill>
        <p:spPr>
          <a:xfrm>
            <a:off x="5105520" y="1600200"/>
            <a:ext cx="361944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cp:lastModifiedBy>
  <dcterms:modified xsi:type="dcterms:W3CDTF">2012-06-18T13:51:07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